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71C-7198-42C6-880B-05618B7B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CBC-C9E1-4B42-B641-5E9DDBF7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48E-8C8D-4E7B-9657-95A54756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63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897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63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897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C8D-3B57-446B-9103-E4E08E18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03B7E-06A6-4D5A-B3CE-9D6CB098F7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2DC1F-0E40-4978-981C-6375A9E187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B7B12-5127-438C-B973-60C776469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A22E9-682A-46D6-9815-8FAFE6CF05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89B9E-EE4D-441E-A74E-E6C51ACB83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6E3DA-CAD8-45C8-94E1-94C9DBB585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8AB3F-07C1-4861-8977-086A1F3138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240-6526-445D-84BF-96507E8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9DBDE-7B59-49A5-8D64-A6B2F2128B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0FE70-8C42-4257-8E1E-0637DB69CE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F4628-7F61-4FFF-B358-CCE9A920E4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2C2B3-AC7F-4754-BF95-8AAD4CBBF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63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97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63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97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14E35-D506-455E-B90D-072F84C76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BD5-4AC2-4319-91C5-8F1C5DD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C1C-EF61-4B99-A37D-C646225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3C2-7B33-4004-9BFB-09251E74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CD1-53AF-473E-9EB3-8C8FDF62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79C-1256-4162-ABBA-F4F8B25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188-7CF2-464F-B7E1-4BFA8D0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BBA-819A-4252-864B-9E741B91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AD819-689F-4FEA-B94B-313553BD90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4"/>
          </p:nvPr>
        </p:nvSpPr>
        <p:spPr>
          <a:xfrm>
            <a:off x="-360" y="0"/>
            <a:ext cx="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824E5-5136-45DD-9796-80A04A5730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008072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567720" y="3424320"/>
            <a:ext cx="3046680" cy="1447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600" y="6118200"/>
            <a:ext cx="4246560" cy="1433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9800" y="1646280"/>
            <a:ext cx="9131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roid Sans Fallback"/>
              </a:rPr>
              <a:t>s2dverific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roid Sans Fallback"/>
              </a:rPr>
              <a:t>An R package for seasonal to decadal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01880" y="3957480"/>
            <a:ext cx="84564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V. Guemas, N. Manubens, C. Prodhomme, V. Torralba, M. Menegoz, O. Bellprat, N. Fuckar, D.Volpi, P.A.  Bretonniere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85920" y="5405400"/>
            <a:ext cx="609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SPECS General Assembly, Norrköping, SMHI, 15/09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008072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209080" y="6458040"/>
            <a:ext cx="1020600" cy="102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217080" y="6759720"/>
            <a:ext cx="86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XGyreAdventor"/>
              </a:rPr>
              <a:t>C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5400000">
            <a:off x="8525520" y="3942360"/>
            <a:ext cx="1292040" cy="179280"/>
          </a:xfrm>
          <a:prstGeom prst="rightArrow">
            <a:avLst>
              <a:gd name="adj1" fmla="val 19769"/>
              <a:gd name="adj2" fmla="val 3216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9520" y="375912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363528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9520" y="351144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9520" y="3860640"/>
            <a:ext cx="1298520" cy="30816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00" y="4214880"/>
            <a:ext cx="16128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104940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of tools to verify seasonal to decadal forecasts by comparing experimental data with observation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320" y="3630600"/>
            <a:ext cx="371520" cy="6192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41480" y="1903320"/>
            <a:ext cx="810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60360" y="2101680"/>
            <a:ext cx="204948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08080" y="2098800"/>
            <a:ext cx="1584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677000" y="2100240"/>
            <a:ext cx="218304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004400" y="2098800"/>
            <a:ext cx="3816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87720" y="7159680"/>
            <a:ext cx="761976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0320" y="3662280"/>
            <a:ext cx="2732040" cy="7462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440" y="2387520"/>
            <a:ext cx="4067280" cy="92556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limatologies, trend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nomalies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6440" y="3662280"/>
            <a:ext cx="4091040" cy="7477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orrelation, ACC, RMSSS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440" y="4803840"/>
            <a:ext cx="4091040" cy="22003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620000">
            <a:off x="4870440" y="3207960"/>
            <a:ext cx="853920" cy="192240"/>
          </a:xfrm>
          <a:prstGeom prst="rightArrow">
            <a:avLst>
              <a:gd name="adj1" fmla="val 20963"/>
              <a:gd name="adj2" fmla="val 12564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7635600" y="337176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7635600" y="451008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54600" y="5157720"/>
            <a:ext cx="4014720" cy="1838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251840" y="4803840"/>
            <a:ext cx="143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0320" y="3860640"/>
            <a:ext cx="28098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0320" y="2563920"/>
            <a:ext cx="32036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0320" y="4410000"/>
            <a:ext cx="3203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480000">
            <a:off x="1660320" y="3976560"/>
            <a:ext cx="465120" cy="165240"/>
          </a:xfrm>
          <a:prstGeom prst="rightArrow">
            <a:avLst>
              <a:gd name="adj1" fmla="val 20963"/>
              <a:gd name="adj2" fmla="val 7962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2280000">
            <a:off x="4862520" y="4718520"/>
            <a:ext cx="853920" cy="190440"/>
          </a:xfrm>
          <a:prstGeom prst="rightArrow">
            <a:avLst>
              <a:gd name="adj1" fmla="val 20963"/>
              <a:gd name="adj2" fmla="val 126837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1480000">
            <a:off x="5002200" y="3943440"/>
            <a:ext cx="628560" cy="196920"/>
          </a:xfrm>
          <a:prstGeom prst="rightArrow">
            <a:avLst>
              <a:gd name="adj1" fmla="val 20963"/>
              <a:gd name="adj2" fmla="val 9029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9520" y="138420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520" y="125892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9520" y="113508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9520" y="1484280"/>
            <a:ext cx="1298520" cy="30816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000" y="1838160"/>
            <a:ext cx="161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320" y="1254240"/>
            <a:ext cx="371520" cy="6192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0320" y="1287360"/>
            <a:ext cx="2732040" cy="7462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0320" y="1484280"/>
            <a:ext cx="2809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0320" y="187200"/>
            <a:ext cx="32036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0320" y="4410000"/>
            <a:ext cx="3203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480000">
            <a:off x="1660320" y="1600200"/>
            <a:ext cx="465120" cy="165240"/>
          </a:xfrm>
          <a:prstGeom prst="rightArrow">
            <a:avLst>
              <a:gd name="adj1" fmla="val 20963"/>
              <a:gd name="adj2" fmla="val 7962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2031840"/>
            <a:ext cx="1800" cy="984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3044880"/>
            <a:ext cx="8201160" cy="154296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d('tos', c('i00k'), c('ERSST'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('19851101', '19901101', '19951101', '20001101', '20051101'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leadtime = 124, leadtimemin = 1, leadtimemax = 6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eperiod = 1, output = 'areave', latmin = 30, latmax = 4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min = 0, lonmax=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48160" y="4552920"/>
            <a:ext cx="1440" cy="984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3960" y="5580000"/>
            <a:ext cx="1463760" cy="73188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$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5580000"/>
            <a:ext cx="1463760" cy="73188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$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6642000"/>
            <a:ext cx="1463400" cy="731880"/>
          </a:xfrm>
          <a:prstGeom prst="rect">
            <a:avLst/>
          </a:pr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$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11240" y="6642000"/>
            <a:ext cx="1463760" cy="731880"/>
          </a:xfrm>
          <a:prstGeom prst="rect">
            <a:avLst/>
          </a:pr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$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4680" y="5162400"/>
            <a:ext cx="424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nbmodel/nobs, nbmemb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bstartdates, nbleadtime, nblat, nblon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86480" y="6100920"/>
            <a:ext cx="2670480" cy="1468440"/>
          </a:xfrm>
          <a:prstGeom prst="rect">
            <a:avLst/>
          </a:prstGeom>
          <a:noFill/>
          <a:ln w="18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functions of the packag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ing with this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9520" y="138420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520" y="125892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9520" y="113508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9520" y="1484280"/>
            <a:ext cx="1298520" cy="30816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000" y="1838160"/>
            <a:ext cx="161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6320" y="1254240"/>
            <a:ext cx="371520" cy="6192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2871720"/>
            <a:ext cx="2732400" cy="7462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9240" y="3068640"/>
            <a:ext cx="2810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5760" y="394668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RE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14480" y="344484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06640" y="344808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6880" y="2849400"/>
            <a:ext cx="898560" cy="109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480" y="3073320"/>
            <a:ext cx="679320" cy="679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rot="21480000">
            <a:off x="1976400" y="2999880"/>
            <a:ext cx="865080" cy="457200"/>
          </a:xfrm>
          <a:prstGeom prst="rightArrow">
            <a:avLst>
              <a:gd name="adj1" fmla="val 20963"/>
              <a:gd name="adj2" fmla="val 53522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16120" y="5653080"/>
            <a:ext cx="168120" cy="4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886040" y="1093680"/>
            <a:ext cx="3240" cy="4578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16120" y="111276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24280" y="1052640"/>
            <a:ext cx="695160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  <a:ea typeface="Droid Sans Fallback"/>
              </a:rPr>
              <a:t>Configurable Load fun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  <a:ea typeface="Droid Sans Fallback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- NetCDF 3 and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-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file per member, per start dates, per month, full data in one file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- configurable pa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6400" y="3441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29559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4960" y="2685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4960" y="24512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4960" y="3693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3160" y="392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416088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3160" y="22352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552840" y="3689280"/>
            <a:ext cx="6527880" cy="2540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2680" y="7120080"/>
            <a:ext cx="36576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ApplyMatching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25960" y="6345360"/>
            <a:ext cx="20178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File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8320" y="7083360"/>
            <a:ext cx="20178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File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4320" y="6526080"/>
            <a:ext cx="22860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File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240" y="5896080"/>
            <a:ext cx="22860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Show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0080" y="6740640"/>
            <a:ext cx="325116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ShowSimilar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rot="5400000">
            <a:off x="8525520" y="3942360"/>
            <a:ext cx="1292040" cy="179280"/>
          </a:xfrm>
          <a:prstGeom prst="rightArrow">
            <a:avLst>
              <a:gd name="adj1" fmla="val 19769"/>
              <a:gd name="adj2" fmla="val 3216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41480" y="1903320"/>
            <a:ext cx="810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60360" y="2101680"/>
            <a:ext cx="204948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008080" y="2098800"/>
            <a:ext cx="1584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77000" y="2100240"/>
            <a:ext cx="218304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004400" y="2098800"/>
            <a:ext cx="3816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87720" y="7159680"/>
            <a:ext cx="761976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0320" y="2871720"/>
            <a:ext cx="2932200" cy="36212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6440" y="2387520"/>
            <a:ext cx="4067280" cy="72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Categorization of ensembl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4160" y="3475080"/>
            <a:ext cx="4676760" cy="10144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Ranked correlation, CRP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Arial"/>
              </a:rPr>
              <a:t>ACC bootstrap confidence interv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7635600" y="322740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7635600" y="451008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0320" y="3068640"/>
            <a:ext cx="2809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0320" y="2130480"/>
            <a:ext cx="3203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00320" y="3726000"/>
            <a:ext cx="32036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480000">
            <a:off x="5002200" y="3909960"/>
            <a:ext cx="299880" cy="196920"/>
          </a:xfrm>
          <a:prstGeom prst="rightArrow">
            <a:avLst>
              <a:gd name="adj1" fmla="val 20963"/>
              <a:gd name="adj2" fmla="val 43077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00320" y="3724200"/>
            <a:ext cx="2932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Supports datasets stored in OpeNDAP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Exploits multi-core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Can work with data in many forma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cc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NetCDF, NetCD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File per member, file per starting date, single fil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Supports specific folder and file naming conven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80080" y="4756320"/>
            <a:ext cx="4216320" cy="22968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42200" y="4794120"/>
            <a:ext cx="2531880" cy="2217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80080" y="4754520"/>
            <a:ext cx="2459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Arial"/>
              </a:rPr>
              <a:t>Stereographic proj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21480000">
            <a:off x="1978200" y="4600440"/>
            <a:ext cx="176040" cy="150840"/>
          </a:xfrm>
          <a:prstGeom prst="rightArrow">
            <a:avLst>
              <a:gd name="adj1" fmla="val 20963"/>
              <a:gd name="adj2" fmla="val 3301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288612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0200" y="277164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0200" y="265896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0200" y="254808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280" y="3303720"/>
            <a:ext cx="14763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2920" y="524664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36720" y="53928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08000" y="3468240"/>
            <a:ext cx="1800" cy="1933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4160" y="2658960"/>
            <a:ext cx="339840" cy="5724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6720" y="347832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3800" y="474804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84040" y="4149720"/>
            <a:ext cx="898560" cy="1096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1280" y="4373640"/>
            <a:ext cx="679680" cy="679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21480000">
            <a:off x="5132160" y="5479920"/>
            <a:ext cx="547560" cy="206640"/>
          </a:xfrm>
          <a:prstGeom prst="rightArrow">
            <a:avLst>
              <a:gd name="adj1" fmla="val 20963"/>
              <a:gd name="adj2" fmla="val 74956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21480000">
            <a:off x="5127120" y="2852640"/>
            <a:ext cx="547920" cy="206640"/>
          </a:xfrm>
          <a:prstGeom prst="rightArrow">
            <a:avLst>
              <a:gd name="adj1" fmla="val 20963"/>
              <a:gd name="adj2" fmla="val 75005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6360" y="122724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Contributio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the period 2014-2015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5400000">
            <a:off x="8525520" y="3942360"/>
            <a:ext cx="1292040" cy="179280"/>
          </a:xfrm>
          <a:prstGeom prst="rightArrow">
            <a:avLst>
              <a:gd name="adj1" fmla="val 19769"/>
              <a:gd name="adj2" fmla="val 3216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41480" y="1903320"/>
            <a:ext cx="810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160360" y="2101680"/>
            <a:ext cx="204948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008080" y="2098800"/>
            <a:ext cx="1584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77000" y="2100240"/>
            <a:ext cx="218304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004400" y="2098800"/>
            <a:ext cx="3816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87720" y="7159680"/>
            <a:ext cx="761976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7240" y="2871720"/>
            <a:ext cx="3139920" cy="3164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16440" y="2387520"/>
            <a:ext cx="4067280" cy="72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6b0094"/>
                </a:solidFill>
                <a:latin typeface="Arial"/>
              </a:rPr>
              <a:t>Clu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61080" y="3475080"/>
            <a:ext cx="4211640" cy="10144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420e"/>
                </a:solidFill>
                <a:latin typeface="Arial"/>
              </a:rPr>
              <a:t>Brier Score</a:t>
            </a: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i="1" lang="en-GB" sz="2200" spc="-1" strike="noStrike">
                <a:solidFill>
                  <a:srgbClr val="6b0094"/>
                </a:solidFill>
                <a:latin typeface="Arial"/>
              </a:rPr>
              <a:t>Bootstrap</a:t>
            </a: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635600" y="322740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7635600" y="451008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0320" y="3068640"/>
            <a:ext cx="2809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00320" y="2130480"/>
            <a:ext cx="32036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1480000">
            <a:off x="5303880" y="3914280"/>
            <a:ext cx="431640" cy="196920"/>
          </a:xfrm>
          <a:prstGeom prst="rightArrow">
            <a:avLst>
              <a:gd name="adj1" fmla="val 20963"/>
              <a:gd name="adj2" fmla="val 6200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7240" y="3544920"/>
            <a:ext cx="313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6b0094"/>
                </a:solidFill>
                <a:latin typeface="Arial"/>
                <a:ea typeface="Droid Sans Fallback"/>
              </a:rPr>
              <a:t>Exploit sub-setting from THRE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420e"/>
                </a:solidFill>
                <a:latin typeface="Arial"/>
                <a:ea typeface="Droid Sans Fallback"/>
              </a:rPr>
              <a:t>Load file per chu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6b0094"/>
                </a:solidFill>
                <a:latin typeface="Arial"/>
                <a:ea typeface="Droid Sans Fallback"/>
              </a:rPr>
              <a:t>Generate obs member from obs uncertain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420e"/>
                </a:solidFill>
                <a:latin typeface="Arial"/>
                <a:ea typeface="Droid Sans Fallback"/>
              </a:rPr>
              <a:t>Improve the masking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80080" y="4756320"/>
            <a:ext cx="4216320" cy="22968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0080" y="4754520"/>
            <a:ext cx="2459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480000">
            <a:off x="1978200" y="4600440"/>
            <a:ext cx="176040" cy="150840"/>
          </a:xfrm>
          <a:prstGeom prst="rightArrow">
            <a:avLst>
              <a:gd name="adj1" fmla="val 20963"/>
              <a:gd name="adj2" fmla="val 3301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0200" y="288612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0200" y="277164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0200" y="265896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254808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280" y="3303720"/>
            <a:ext cx="14763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2920" y="524664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36720" y="53928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08000" y="3468240"/>
            <a:ext cx="1800" cy="1933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4160" y="2658960"/>
            <a:ext cx="339840" cy="5724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36720" y="347832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3800" y="474804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84040" y="4149720"/>
            <a:ext cx="898560" cy="1096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1280" y="4373640"/>
            <a:ext cx="679680" cy="679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21480000">
            <a:off x="5132160" y="5479920"/>
            <a:ext cx="547560" cy="206640"/>
          </a:xfrm>
          <a:prstGeom prst="rightArrow">
            <a:avLst>
              <a:gd name="adj1" fmla="val 20963"/>
              <a:gd name="adj2" fmla="val 74956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21480000">
            <a:off x="5127120" y="2852640"/>
            <a:ext cx="547920" cy="206640"/>
          </a:xfrm>
          <a:prstGeom prst="rightArrow">
            <a:avLst>
              <a:gd name="adj1" fmla="val 20963"/>
              <a:gd name="adj2" fmla="val 75005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122724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Arial"/>
              </a:rPr>
              <a:t>On-go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dd4814"/>
                </a:solidFill>
                <a:latin typeface="Arial"/>
              </a:rPr>
              <a:t>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48520" y="4836960"/>
            <a:ext cx="12398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rot="5400000">
            <a:off x="8525520" y="4195080"/>
            <a:ext cx="1292400" cy="179280"/>
          </a:xfrm>
          <a:prstGeom prst="rightArrow">
            <a:avLst>
              <a:gd name="adj1" fmla="val 19769"/>
              <a:gd name="adj2" fmla="val 3217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488360" y="419040"/>
            <a:ext cx="1020600" cy="1020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496360" y="720720"/>
            <a:ext cx="86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XGyreAdventor"/>
              </a:rPr>
              <a:t>C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0" y="1152360"/>
            <a:ext cx="345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asonal to decadal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6360" y="166212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Contributio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the period 2014-2015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03640" y="2448000"/>
            <a:ext cx="7414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03440" y="2627280"/>
            <a:ext cx="215424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76360" y="2722680"/>
            <a:ext cx="1800" cy="434808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65960" y="2627280"/>
            <a:ext cx="218592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9683640" y="2703240"/>
            <a:ext cx="17640" cy="436716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29000" y="7159680"/>
            <a:ext cx="697392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59280" y="2879640"/>
            <a:ext cx="3743640" cy="72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Categorization of ensembl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59280" y="3959280"/>
            <a:ext cx="3745080" cy="684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Ranked correlation, CR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ACC bootstrap confidence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59280" y="5003640"/>
            <a:ext cx="3745080" cy="2052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7516080" y="369180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7516080" y="473472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59280" y="5002200"/>
            <a:ext cx="1476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Stereographic pro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40160" y="2952720"/>
            <a:ext cx="293184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40160" y="4643280"/>
            <a:ext cx="293184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1480000">
            <a:off x="2303640" y="4210200"/>
            <a:ext cx="176040" cy="150840"/>
          </a:xfrm>
          <a:prstGeom prst="rightArrow">
            <a:avLst>
              <a:gd name="adj1" fmla="val 20963"/>
              <a:gd name="adj2" fmla="val 3301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9280" y="343044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9280" y="331632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9280" y="320364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9280" y="309240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3848040"/>
            <a:ext cx="1476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579132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60720" y="528948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232000" y="3365280"/>
            <a:ext cx="1440" cy="1933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73240" y="3203640"/>
            <a:ext cx="339480" cy="5724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60720" y="33750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52520" y="529272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73120" y="4694400"/>
            <a:ext cx="898560" cy="1096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60360" y="4917960"/>
            <a:ext cx="679320" cy="679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535120" y="3060720"/>
            <a:ext cx="2932200" cy="306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04040" y="3164040"/>
            <a:ext cx="215640" cy="179280"/>
          </a:xfrm>
          <a:prstGeom prst="rightArrow">
            <a:avLst>
              <a:gd name="adj1" fmla="val 20963"/>
              <a:gd name="adj2" fmla="val 3402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02240" y="420696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02240" y="582624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35120" y="3198960"/>
            <a:ext cx="2932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35120" y="3522600"/>
            <a:ext cx="2932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Supports datasets stored in OpeNDAP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Exploits multi-core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Can work with data in many forma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cc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NetCDF, NetCD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File per member, file per starting date, single fil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Supports specific folder and file naming conven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7236000" y="5037120"/>
            <a:ext cx="2249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3:54:37Z</dcterms:created>
  <dc:creator>Nicolau Gil</dc:creator>
  <dc:description/>
  <dc:language>en-US</dc:language>
  <cp:lastModifiedBy/>
  <cp:revision>0</cp:revision>
  <dc:subject/>
  <dc:title/>
</cp:coreProperties>
</file>